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0C83F-CC39-468A-9739-D730BF186E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4E89-C3E6-41A5-8A05-FB744F69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B076-234A-4411-B8D7-F0DE4521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33D5F-83A4-430F-AC7D-7241F62754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69A8-7539-4D06-B39F-5AEB8C27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A6E77-9885-4038-A5BE-3374F504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06708-275C-40E9-8EDB-5877E031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EA0B1-B62B-4A16-BB81-3BD2553B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ADE8-8C3B-412A-87F8-E38A39AA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87DAF-B9A3-42B2-BC51-A9C3BC75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824D-CC0C-4556-905B-7C3716F3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45348-710E-447C-86D8-95566755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C24E-C777-4DA1-AA68-730DEAD543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81360"/>
            <a:ext cx="6924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第十二节  呕血与黑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685800" y="4572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十二指肠降部溃疡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3" descr="8"/>
          <p:cNvPicPr/>
          <p:nvPr/>
        </p:nvPicPr>
        <p:blipFill>
          <a:blip r:embed="rId1"/>
          <a:stretch/>
        </p:blipFill>
        <p:spPr>
          <a:xfrm>
            <a:off x="685800" y="1828800"/>
            <a:ext cx="3828960" cy="346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8"/>
          <p:cNvPicPr/>
          <p:nvPr/>
        </p:nvPicPr>
        <p:blipFill>
          <a:blip r:embed="rId2"/>
          <a:stretch/>
        </p:blipFill>
        <p:spPr>
          <a:xfrm>
            <a:off x="4643280" y="1828800"/>
            <a:ext cx="38862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15"/>
          <p:cNvPicPr/>
          <p:nvPr/>
        </p:nvPicPr>
        <p:blipFill>
          <a:blip r:embed="rId1"/>
          <a:stretch/>
        </p:blipFill>
        <p:spPr>
          <a:xfrm>
            <a:off x="1415880" y="0"/>
            <a:ext cx="6383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56160" y="2602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食管静脉曲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3" descr="J:\xhnj\xiao\4-5-30a.jpg"/>
          <p:cNvPicPr/>
          <p:nvPr/>
        </p:nvPicPr>
        <p:blipFill>
          <a:blip r:embed="rId1"/>
          <a:stretch/>
        </p:blipFill>
        <p:spPr>
          <a:xfrm>
            <a:off x="76320" y="1700280"/>
            <a:ext cx="4495680" cy="4186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图片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75320" y="1700280"/>
            <a:ext cx="4360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道出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4" descr="胆道出血"/>
          <p:cNvPicPr/>
          <p:nvPr/>
        </p:nvPicPr>
        <p:blipFill>
          <a:blip r:embed="rId1"/>
          <a:stretch/>
        </p:blipFill>
        <p:spPr>
          <a:xfrm>
            <a:off x="317520" y="1403280"/>
            <a:ext cx="4444920" cy="4800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st术后出血"/>
          <p:cNvPicPr/>
          <p:nvPr/>
        </p:nvPicPr>
        <p:blipFill>
          <a:blip r:embed="rId2"/>
          <a:stretch/>
        </p:blipFill>
        <p:spPr>
          <a:xfrm>
            <a:off x="4716360" y="1628640"/>
            <a:ext cx="4013280" cy="4464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468360" y="1557360"/>
            <a:ext cx="8136000" cy="4535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351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过程：</a:t>
            </a: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前兆，呕出血性胃内容物，继而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部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上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</a:t>
            </a:r>
            <a:r>
              <a:rPr b="0" lang="en-US" sz="2800" spc="-1" strike="noStrike">
                <a:solidFill>
                  <a:srgbClr val="969696"/>
                </a:solidFill>
                <a:latin typeface="黑体"/>
                <a:ea typeface="黑体"/>
              </a:rPr>
              <a:t>+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下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量及在胃内停留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大，时间短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鲜红色，紫红色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小，时间长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咖啡色，稠厚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4" descr="zhd21"/>
          <p:cNvPicPr/>
          <p:nvPr/>
        </p:nvPicPr>
        <p:blipFill>
          <a:blip r:embed="rId1"/>
          <a:srcRect l="10063" t="32362" r="8534" b="26780"/>
          <a:stretch/>
        </p:blipFill>
        <p:spPr>
          <a:xfrm>
            <a:off x="250920" y="1268280"/>
            <a:ext cx="864216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2" descr="zhd22"/>
          <p:cNvPicPr/>
          <p:nvPr/>
        </p:nvPicPr>
        <p:blipFill>
          <a:blip r:embed="rId1"/>
          <a:srcRect l="7518" t="31079" r="6360" b="22906"/>
          <a:stretch/>
        </p:blipFill>
        <p:spPr>
          <a:xfrm>
            <a:off x="250920" y="1557360"/>
            <a:ext cx="8642160" cy="4967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24000" y="3141720"/>
            <a:ext cx="158400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-1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5280" y="4292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5300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843280" y="3429000"/>
            <a:ext cx="1800000" cy="3988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（头晕，畏寒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咯血与呕血的鉴别诊断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268280"/>
          <a:ext cx="8713800" cy="4740480"/>
        </p:xfrm>
        <a:graphic>
          <a:graphicData uri="http://schemas.openxmlformats.org/drawingml/2006/table">
            <a:tbl>
              <a:tblPr/>
              <a:tblGrid>
                <a:gridCol w="1800360"/>
                <a:gridCol w="3313080"/>
                <a:gridCol w="360036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咯    血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呕    血</a:t>
                      </a:r>
                      <a:r>
                        <a:rPr b="0" lang="zh-CN" sz="1800" spc="-1" strike="noStrike">
                          <a:solidFill>
                            <a:srgbClr val="996633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病因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肺结核、支气管扩张症、肺炎、肺脓肿、肺癌、心脏病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消化性渍病、肝硬化、急性糜烂出血性胃炎、胆道出血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前症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喉部痒感、胸闻、咳嗽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上腹不适、恶心、呕吐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方式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咯出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呕出，可为喷射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棕黑、暗红、有时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中混有物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痰、泡沫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食物残渣、胃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酸碱反应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碱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酸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黑便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除非咽下，否则没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有，可为柏油样便，呕血停止后仍持续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后痰性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常有血痰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无痰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黑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呕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黑便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呕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黑便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呕血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黑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相关疾病史及诱发因素（饮食、药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咯血鉴别、黑便（食物、药物），并排除相关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点：次数、量、颜色、性状及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对功能性健康型态的影响：循环血量不足、情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组织灌注量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活动无耐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恐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有误吸的危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焦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1219320"/>
            <a:ext cx="6629400" cy="75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50920" y="14130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呕血：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屈氏韧带以上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消化道出血，血液经口腔呕出的现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（上消化道出血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黑便：上消化道出血时血液经肠道排出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色黑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而称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柏油便（上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68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03360" y="369720"/>
            <a:ext cx="5943600" cy="3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溃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3" descr="eso-ulc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484280"/>
            <a:ext cx="4032000" cy="432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胃角切部溃疡（A1期）"/>
          <p:cNvPicPr/>
          <p:nvPr/>
        </p:nvPicPr>
        <p:blipFill>
          <a:blip r:embed="rId3"/>
          <a:stretch/>
        </p:blipFill>
        <p:spPr>
          <a:xfrm>
            <a:off x="4716360" y="1484280"/>
            <a:ext cx="3959280" cy="4321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39640" y="1413000"/>
            <a:ext cx="8209080" cy="4464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4" descr="ESO_TUMOR_1G2_150_16930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396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ESO_CA_1_150"/>
          <p:cNvPicPr/>
          <p:nvPr/>
        </p:nvPicPr>
        <p:blipFill>
          <a:blip r:embed="rId2"/>
          <a:stretch/>
        </p:blipFill>
        <p:spPr>
          <a:xfrm>
            <a:off x="4572000" y="1628640"/>
            <a:ext cx="3960720" cy="396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4000" y="1557360"/>
            <a:ext cx="8208720" cy="4248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7:59:02Z</dcterms:modified>
  <cp:revision>106</cp:revision>
  <dc:subject/>
  <dc:title>咯　血 (hemoptysis)</dc:title>
</cp:coreProperties>
</file>